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B3B0-FFFE-47C4-B4F5-D390AAC5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D6FF-57C8-4DFE-A6E2-2B386768FC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A36-3092-4633-9DEA-319E2DE9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594-FA6B-46D7-B809-DDF64D34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831-53FA-4DFF-884D-F690AD6B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382-AE39-4CC1-8710-0630256D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6B6-7DEB-42B1-A626-BAE03A19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346-42A1-431D-9D4C-37E4B209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0B1-43F0-4A68-A571-56707A4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5A4-9314-41A4-90CE-8D4876A6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82D-59AF-457D-9018-B34D35D6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DE9-CE69-43C7-B3EE-4AA0FC0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271-FCEE-4453-B35C-BEDD0A7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39C-F226-46F9-9D4E-B110D21A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7948-888F-4B18-AC1A-6A718AC20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u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9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3048120"/>
            <a:ext cx="7162920" cy="16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SA Day 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143000"/>
            <a:ext cx="861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99"/>
                </a:solidFill>
                <a:latin typeface="Times New Roman"/>
              </a:rPr>
              <a:t>Key Question 14 What is Magnetism? EXIT SLI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609480"/>
            <a:ext cx="899136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4: What is magnetism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magnetism, magnetic poles, and magnetic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 the terms below with their defin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etis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s of a magnetic object where the magnetic force is 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s inside all objects that when lined up create a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of attraction or repulsion among magnetic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ai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e region around a magnet where magnetic force is exe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magnets behave when brought near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the magnets below attract or repe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an object can be magnet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can you do to create a temporary magnet out of a papercli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409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429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81984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962840" y="3505320"/>
            <a:ext cx="95256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3840" y="3949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560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24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86080" y="39495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648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8077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320" y="609480"/>
            <a:ext cx="899136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4: What is magnetism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magnetism, magnetic poles, and magnetic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 the terms below with their defin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etis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s of a magnetic object where the magnetic force is 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s inside all objects that when lined up create a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of attraction or repulsion among magnetic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ai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e region around a magnet where magnetic force is exe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magnets behave when brought near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the magnets below attract or repe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an object can be magnet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can you do to create a temporary magnet out of a papercli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6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409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429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81984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962840" y="3505320"/>
            <a:ext cx="952560" cy="380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3840" y="3949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560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724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486080" y="39495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648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8077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Key Question 14 – Exit 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ity &amp; Circuits – ActivInspire Flipchart (internet activities) TUESDAY &amp;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! (Step 2 Due Mon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good night’s sleep and eat breakfa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“open” circ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B85DA15D-9B06-46EF-B59A-20782BF6FCCD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is required to make a circui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ole of insulators and conductors in electric circu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a series and parallel circuits are constru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and describe how electrical energy can be converted into other forms of energy (light, sound, and mo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1523880" y="2057400"/>
            <a:ext cx="6096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440" y="1704960"/>
            <a:ext cx="8686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t a good night’s sleep and eat breakfast in the mor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magnet Fishing Derby Step 2 – DUE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ircuit is considered “open” when the switch is 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rned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rned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ken or destro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105" name="ANShape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NText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41:33Z</dcterms:created>
  <dc:creator>CCPS</dc:creator>
  <dc:description/>
  <dc:language>en-US</dc:language>
  <cp:lastModifiedBy>CCPS</cp:lastModifiedBy>
  <dcterms:modified xsi:type="dcterms:W3CDTF">2010-03-09T17:41:51Z</dcterms:modified>
  <cp:revision>2</cp:revision>
  <dc:subject/>
  <dc:title>Slide 1</dc:title>
</cp:coreProperties>
</file>